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AD96-B273-47F3-9ADA-976F3B2BB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9844-E696-4E03-9FB7-958285DF1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0460-56AF-46E0-AE88-707CAFEE6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B93E-01B7-4AF3-A7CA-A193C59ED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0AD67-C29B-4CCC-B66F-104F46DAC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663A-8373-489D-863D-57D319FBE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40EB2-5287-46EA-BABB-9952B133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2CEB-0A29-499B-9061-AF56374BF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8F3EC-9A35-4F9A-A324-76161EE5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26138-FDC6-4101-9C33-5082B21ED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42D80-B3C7-4A14-9464-8229376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6FD6-91F6-4A59-BBAF-15E1195E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093C-5DD5-49AB-A88C-4B5F7AB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46C35-40C0-442A-B46F-7A5867C8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AF4A9-3092-4BAB-BB9F-02E1A0E42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4EBAB-DDAE-49DF-B93A-D5CC05A5B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12308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493320" y="139536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7524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12308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493320" y="3783600"/>
            <a:ext cx="22572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10E8D-44C1-4DEE-BB37-1DB8D2849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DD2E-3B6D-4DB9-94FD-FB584DE7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D813-91F8-4B94-B7E6-EF49ED34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97D3-B8A2-4FE2-944B-E9AEDE2D6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752480" y="30492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19C-3F05-42CB-87F1-2D9E76AF7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34CA-8108-41C2-BD03-792BACE9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44920" y="378360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3776-945A-4BE4-A178-AD4997C4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5248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344920" y="1395360"/>
            <a:ext cx="34210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752480" y="3783600"/>
            <a:ext cx="70106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0866-8765-4DE9-8225-DF6F53B5E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395360"/>
            <a:ext cx="7010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9051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316400" y="6400800"/>
            <a:ext cx="208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91520" y="640080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54284-BC07-4A4C-8B4E-1AD558C9CB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>
            <a:hlinkClick r:id="" action="ppaction://hlinkshowjump?jump=firstslide"/>
          </p:cNvPr>
          <p:cNvSpPr/>
          <p:nvPr/>
        </p:nvSpPr>
        <p:spPr>
          <a:xfrm>
            <a:off x="8358120" y="65833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previousslide"/>
          </p:cNvPr>
          <p:cNvSpPr/>
          <p:nvPr/>
        </p:nvSpPr>
        <p:spPr>
          <a:xfrm>
            <a:off x="7400880" y="6583320"/>
            <a:ext cx="274680" cy="274680"/>
          </a:xfrm>
          <a:custGeom>
            <a:avLst/>
            <a:gdLst>
              <a:gd name="textAreaLeft" fmla="*/ 17640 w 274680"/>
              <a:gd name="textAreaRight" fmla="*/ 257040 w 27468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nextslide"/>
          </p:cNvPr>
          <p:cNvSpPr/>
          <p:nvPr/>
        </p:nvSpPr>
        <p:spPr>
          <a:xfrm>
            <a:off x="7886880" y="6583320"/>
            <a:ext cx="274320" cy="274680"/>
          </a:xfrm>
          <a:custGeom>
            <a:avLst/>
            <a:gdLst>
              <a:gd name="textAreaLeft" fmla="*/ 17640 w 274320"/>
              <a:gd name="textAreaRight" fmla="*/ 256680 w 274320"/>
              <a:gd name="textAreaTop" fmla="*/ 17640 h 274680"/>
              <a:gd name="textAreaBottom" fmla="*/ 257040 h 274680"/>
            </a:gdLst>
            <a:ahLst/>
            <a:rect l="textAreaLeft" t="textAreaTop" r="textAreaRight" b="textAreaBottom"/>
            <a:pathLst>
              <a:path w="21600" h="21628">
                <a:moveTo>
                  <a:pt x="0" y="0"/>
                </a:moveTo>
                <a:lnTo>
                  <a:pt x="21600" y="0"/>
                </a:lnTo>
                <a:lnTo>
                  <a:pt x="21600" y="21628"/>
                </a:lnTo>
                <a:lnTo>
                  <a:pt x="0" y="21628"/>
                </a:lnTo>
                <a:close/>
              </a:path>
              <a:path fill="lightenLess" w="21600" h="216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8">
                <a:moveTo>
                  <a:pt x="21600" y="0"/>
                </a:moveTo>
                <a:lnTo>
                  <a:pt x="21600" y="21628"/>
                </a:lnTo>
                <a:lnTo>
                  <a:pt x="20200" y="20228"/>
                </a:lnTo>
                <a:lnTo>
                  <a:pt x="20200" y="1400"/>
                </a:lnTo>
                <a:close/>
              </a:path>
              <a:path fill="darkenLess" w="21600" h="21628">
                <a:moveTo>
                  <a:pt x="21600" y="21628"/>
                </a:moveTo>
                <a:lnTo>
                  <a:pt x="0" y="21628"/>
                </a:lnTo>
                <a:lnTo>
                  <a:pt x="1400" y="20228"/>
                </a:lnTo>
                <a:lnTo>
                  <a:pt x="20200" y="20228"/>
                </a:lnTo>
                <a:close/>
              </a:path>
              <a:path fill="lighten" w="21600" h="21628">
                <a:moveTo>
                  <a:pt x="0" y="216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8"/>
                </a:lnTo>
                <a:close/>
              </a:path>
              <a:path fill="darken" w="21600" h="21628">
                <a:moveTo>
                  <a:pt x="3794" y="3808"/>
                </a:moveTo>
                <a:lnTo>
                  <a:pt x="17806" y="10814"/>
                </a:lnTo>
                <a:lnTo>
                  <a:pt x="3794" y="17821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ABD9E-83EB-4DE1-88BC-B40A55E36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.state.tx.us/starchart" TargetMode="External"/><Relationship Id="rId3" Type="http://schemas.openxmlformats.org/officeDocument/2006/relationships/hyperlink" Target="http://starchart.esc12.net/docs/TxTSC.pdf" TargetMode="External"/><Relationship Id="rId4" Type="http://schemas.openxmlformats.org/officeDocument/2006/relationships/hyperlink" Target="http://starchart.esc12.net/docs/TxCSC.pdf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itter.tea.state.tx.us/technology/etac/LRPToct06.pdf" TargetMode="Externa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ea.state.tx.us/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14320" y="927000"/>
            <a:ext cx="74296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La Vernia Elementary</a:t>
            </a:r>
            <a:br>
              <a:rPr sz="3600"/>
            </a:br>
            <a:r>
              <a:rPr b="1" lang="en-US" sz="3600" spc="-1" strike="noStrike">
                <a:solidFill>
                  <a:srgbClr val="006666"/>
                </a:solidFill>
                <a:latin typeface="Tahoma"/>
              </a:rPr>
              <a:t>STaR Chart Analysis</a:t>
            </a:r>
            <a:endParaRPr b="1" lang="en-US" sz="36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991960" y="2768760"/>
            <a:ext cx="524844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ort to the Facul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5,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rcRect l="349" t="12707" r="508" b="23363"/>
          <a:stretch/>
        </p:blipFill>
        <p:spPr>
          <a:xfrm>
            <a:off x="4505400" y="4349880"/>
            <a:ext cx="3765600" cy="1820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onclusion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753920" y="1109520"/>
            <a:ext cx="70657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st Strength: Infrastructure for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in client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dvanced wireles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st Weakness: Teaching and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Loss of supplemental grant funding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The Sage on the Stage” syndrome 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rching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Follow the TEKS/TA-TEKS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Become “learning facilitators”</a:t>
            </a:r>
            <a:endParaRPr b="0" i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842160" y="4452840"/>
            <a:ext cx="1251000" cy="1822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79480" y="920880"/>
            <a:ext cx="7197840" cy="573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Questions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Measuring Performance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54280" y="1109520"/>
            <a:ext cx="6959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quired annual technology assess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bility of progress data is essent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STaR Chart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 assessment instru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s submit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Teacher STaR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eacher results feed </a:t>
            </a:r>
            <a:r>
              <a:rPr b="0" lang="en-US" sz="2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ampus STaR Cha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4068720" y="4757760"/>
            <a:ext cx="1889280" cy="1511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hart Basi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850760" y="1150920"/>
            <a:ext cx="6622920" cy="50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 Chart based on the Texas LRP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(Long Range Plan for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RPT divided into four dom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aching and Learning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ducator Preparation and Developmen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adership, Administration and Instructional Suppo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rastructure for Technology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 Chart Key Area = LRPT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Levels of Progress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54280" y="1109520"/>
            <a:ext cx="695952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els of Progress in STaR Chart Key Ar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arly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Developing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dvanced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arget Tech</a:t>
            </a:r>
            <a:endParaRPr b="0" i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exas Education Agency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ets goal to achieve Target Tech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556240" y="4716360"/>
            <a:ext cx="1714680" cy="1714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Comparison by Key Area Total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2225520" y="2106720"/>
          <a:ext cx="609156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6720"/>
                    <a:ext cx="60915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2793960" y="1233360"/>
            <a:ext cx="359244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6-8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9-14 = Developing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5-20 = Advanced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1-2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918480" y="277812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2005/2006 A&amp;S and IT totals not directly comparable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Teaching and Learning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227320" y="2106720"/>
          <a:ext cx="6091200" cy="406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7320" y="210672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819520" y="1257480"/>
            <a:ext cx="350496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918480" y="2778120"/>
            <a:ext cx="1839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Educator Preparation and Development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225520" y="210492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49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06560" y="12603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Leadership, Administration and Instructional Support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225520" y="2104920"/>
          <a:ext cx="609624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5520" y="2104920"/>
                    <a:ext cx="609624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06560" y="12603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Tahoma"/>
              </a:rPr>
              <a:t>Infrastructure for Technology</a:t>
            </a:r>
            <a:endParaRPr b="1" lang="en-US" sz="2800" spc="-1" strike="noStrike">
              <a:solidFill>
                <a:srgbClr val="006666"/>
              </a:solidFill>
              <a:latin typeface="Tahoma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2224080" y="2104920"/>
          <a:ext cx="6095880" cy="4067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24080" y="210492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835360" y="6035760"/>
            <a:ext cx="345924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5/2006 Not directly comparable in this view due to STaR Chart design chan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806560" y="1262160"/>
            <a:ext cx="3519720" cy="963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1 = Early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 = Developing T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3 = Advanced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4 = Target T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16:05:03Z</dcterms:created>
  <dc:creator>Allen D. Bordelon</dc:creator>
  <dc:description/>
  <cp:keywords/>
  <dc:language>en-US</dc:language>
  <cp:lastModifiedBy>Allen Bordelon</cp:lastModifiedBy>
  <dcterms:modified xsi:type="dcterms:W3CDTF">2009-06-15T20:31:59Z</dcterms:modified>
  <cp:revision>72</cp:revision>
  <dc:subject/>
  <dc:title>Classroom Expect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589511033</vt:lpwstr>
  </property>
</Properties>
</file>